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A8A-C2B0-4691-9961-1159C148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870-855A-464C-99B6-18E3C858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7B2-BA04-469C-B830-ADEB852D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ADC-AEF1-4405-B96C-5864E567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AA4F-7565-4FD4-A28F-2A5859FD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569B-F5AD-4221-9465-FE3ADA93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9962-3192-4244-939E-E438340A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D5CA-693B-46C3-B1CD-E39C4B6D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8DBA-7D1F-429A-B943-B565776B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A980-12D0-4EA6-96DF-61B44E81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DD7-4CA7-4DB7-8845-884DE5C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49B-87E7-4267-BBAC-72BF0F8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1A06-C772-4816-8E99-BCCD024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ABC-471E-49E4-8419-C8C5B5B3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5C8C-73C9-45F1-87EE-D95C3065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9D1-8F3A-4ADE-90CD-CA8F5189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F293-C063-4ACE-869C-A4DCF017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89F-21A8-4D68-8F43-73CB48DC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142-706C-4AD9-AC5F-9090ED9B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AF6-9475-4FCA-BFA3-AC1A01EA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911-DC3E-4723-AB37-B8895184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C5A-E684-40C7-915F-D2D377B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690-19CD-4A0E-84A2-76628DF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6DD-1D59-42F7-AADD-15DFC453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3CB5-920A-4D44-921E-D3F8C0E7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EDBF-1D70-4A05-8F8B-16AC69704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wagattours.com/rajasthan-overview/gifs/people-rajasthan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5 THEMES OF GEOGRAPH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 1 SECTION 1 NO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HE FIVE THEMES OF GEOGRAPHY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oc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la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uman-Environment Interac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ove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ion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CATION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ere are we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solute 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titude and longitude (global location) or a street address (local locatio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is France is 48</a:t>
            </a:r>
            <a:r>
              <a:rPr b="0" lang="en-US" sz="1800" spc="-1" strike="noStrike" baseline="40000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rth Latitude and 2</a:t>
            </a:r>
            <a:r>
              <a:rPr b="0" lang="en-US" sz="1800" spc="-1" strike="noStrike" baseline="40000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ast Longitud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White House is located at 1600 Pennsylvania Ave.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ative 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cribed by landmarks, time, direction or distance. From one place to anot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o 1 mile west on main street and turn left for 1 bloc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www.bedandbreakfast.com/inns/lennox-south-dakota-inns.gif"/>
          <p:cNvPicPr/>
          <p:nvPr/>
        </p:nvPicPr>
        <p:blipFill>
          <a:blip r:embed="rId1"/>
          <a:stretch/>
        </p:blipFill>
        <p:spPr>
          <a:xfrm>
            <a:off x="4114800" y="5334120"/>
            <a:ext cx="31100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Down Arrow 6"/>
          <p:cNvSpPr/>
          <p:nvPr/>
        </p:nvSpPr>
        <p:spPr>
          <a:xfrm rot="20904600">
            <a:off x="4851000" y="4610160"/>
            <a:ext cx="1276560" cy="13906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 are He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L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3468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it like there, what kind of place is i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uman Characteris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at are the main languages, customs, and belief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ow many people live, work, and visit a plac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hysical Characteris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ndforms (mountains, rivers, etc.), climate, vegetation, wildlife, soil, etc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http://www.visitusa.com/idaho/images/snake-river.jpg"/>
          <p:cNvPicPr/>
          <p:nvPr/>
        </p:nvPicPr>
        <p:blipFill>
          <a:blip r:embed="rId1"/>
          <a:stretch/>
        </p:blipFill>
        <p:spPr>
          <a:xfrm>
            <a:off x="5257800" y="4267080"/>
            <a:ext cx="1765440" cy="132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tbn0.google.com/images?q=tbn:ZA9ZcJ6dWIz77M:http://www.swagattours.com/rajasthan-overview/gifs/people-rajastha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53341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ttp://imagecache2.allposters.com/images/pic/NGSPOD08/119497~A-Muslim-at-Prayer-Posters.jpg"/>
          <p:cNvPicPr/>
          <p:nvPr/>
        </p:nvPicPr>
        <p:blipFill>
          <a:blip r:embed="rId4"/>
          <a:stretch/>
        </p:blipFill>
        <p:spPr>
          <a:xfrm>
            <a:off x="1981080" y="4952880"/>
            <a:ext cx="131616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http://newsimg.bbc.co.uk/media/images/39403000/jpg/_39403287_aastreetap203.jpg"/>
          <p:cNvPicPr/>
          <p:nvPr/>
        </p:nvPicPr>
        <p:blipFill>
          <a:blip r:embed="rId5"/>
          <a:stretch/>
        </p:blipFill>
        <p:spPr>
          <a:xfrm>
            <a:off x="3505320" y="5181480"/>
            <a:ext cx="1628640" cy="121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http://www.mass.gov/envir/forest/images/multiLayerForest.jpg"/>
          <p:cNvPicPr/>
          <p:nvPr/>
        </p:nvPicPr>
        <p:blipFill>
          <a:blip r:embed="rId6"/>
          <a:stretch/>
        </p:blipFill>
        <p:spPr>
          <a:xfrm>
            <a:off x="7086600" y="53341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HUMAN-ENVIRONMENT INTERA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w do humans and the environment affect each oth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depend on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eople depend on the Mississippi River for water and transport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modify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eople modify our environment b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eating and cooling buildings for comfor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adapt to it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e adapt to the environment by wear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lothing suitable for summer (shorts) an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inter (coats), rain and shin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http://z.about.com/d/sewing/1/0/i/F/face3.jpg"/>
          <p:cNvPicPr/>
          <p:nvPr/>
        </p:nvPicPr>
        <p:blipFill>
          <a:blip r:embed="rId1"/>
          <a:stretch/>
        </p:blipFill>
        <p:spPr>
          <a:xfrm>
            <a:off x="380880" y="5181480"/>
            <a:ext cx="92736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http://www.china-manufacturer-directory.com/picture/halogen-heater-hh-301.jpg"/>
          <p:cNvPicPr/>
          <p:nvPr/>
        </p:nvPicPr>
        <p:blipFill>
          <a:blip r:embed="rId2"/>
          <a:stretch/>
        </p:blipFill>
        <p:spPr>
          <a:xfrm>
            <a:off x="64008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www.well.com/user/pk/waterfront/Ferry/AC-ferry.jpg"/>
          <p:cNvPicPr/>
          <p:nvPr/>
        </p:nvPicPr>
        <p:blipFill>
          <a:blip r:embed="rId3"/>
          <a:stretch/>
        </p:blipFill>
        <p:spPr>
          <a:xfrm>
            <a:off x="5410080" y="2133720"/>
            <a:ext cx="2438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OVE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re people, goods, ideas moved from place to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an 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ucks, Trains, Pla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ormation 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ll phones (texting), computer (email), ma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a 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do fads/styles move from place to place?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V, Internet, Magaz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dio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www.railwayshop.com/highball/powder10.jpg"/>
          <p:cNvPicPr/>
          <p:nvPr/>
        </p:nvPicPr>
        <p:blipFill>
          <a:blip r:embed="rId1"/>
          <a:stretch/>
        </p:blipFill>
        <p:spPr>
          <a:xfrm>
            <a:off x="4495680" y="2209680"/>
            <a:ext cx="2168640" cy="14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pinker.wjh.harvard.edu/photos/cambridge_boston/images/plane%20taking%20off.jpg"/>
          <p:cNvPicPr/>
          <p:nvPr/>
        </p:nvPicPr>
        <p:blipFill>
          <a:blip r:embed="rId2"/>
          <a:stretch/>
        </p:blipFill>
        <p:spPr>
          <a:xfrm>
            <a:off x="6858000" y="23623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http://www.2nd-chance-encounter.com/files/3PeopleAtLaptop.jpg"/>
          <p:cNvPicPr/>
          <p:nvPr/>
        </p:nvPicPr>
        <p:blipFill>
          <a:blip r:embed="rId3"/>
          <a:stretch/>
        </p:blipFill>
        <p:spPr>
          <a:xfrm>
            <a:off x="7010280" y="3809880"/>
            <a:ext cx="1841760" cy="1220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ttp://boingboing.net/Images/democracyfails.jpg"/>
          <p:cNvPicPr/>
          <p:nvPr/>
        </p:nvPicPr>
        <p:blipFill>
          <a:blip r:embed="rId4"/>
          <a:stretch/>
        </p:blipFill>
        <p:spPr>
          <a:xfrm>
            <a:off x="5105520" y="5486400"/>
            <a:ext cx="1231920" cy="1184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http://o.aolcdn.com/goldrush/blog/peoplecvrP57swholiday.jpg"/>
          <p:cNvPicPr/>
          <p:nvPr/>
        </p:nvPicPr>
        <p:blipFill>
          <a:blip r:embed="rId5"/>
          <a:stretch/>
        </p:blipFill>
        <p:spPr>
          <a:xfrm>
            <a:off x="7315200" y="5105520"/>
            <a:ext cx="1220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GION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ow are Regions similar to and different from other plac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mal Reg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gions defined by governmental or administrative boundaries (States, Countries, Citi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gions defined by similar characteristics (Corn Belt, Rocky Mountain region, Chinatown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unctional Reg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gions defined by a function (newspaper service area, cell phone coverage are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membering the 5 the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19440"/>
            <a:ext cx="7791120" cy="40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f you can’t remember what they are, just ask MR. HELP!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Reg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Human Environment inter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Your 5 Themes of Geography Biograp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CA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you, your family, and where you live (your environment) using the 5 Themes of Geograph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sure you use every the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specific examples on how the 5 themes apply 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YOU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9:13:25Z</dcterms:created>
  <dc:creator>dscott</dc:creator>
  <dc:description/>
  <dc:language>en-US</dc:language>
  <cp:lastModifiedBy>masciarellis</cp:lastModifiedBy>
  <dcterms:modified xsi:type="dcterms:W3CDTF">2010-10-06T17:44:35Z</dcterms:modified>
  <cp:revision>55</cp:revision>
  <dc:subject/>
  <dc:title>5 Themes of Geography</dc:title>
</cp:coreProperties>
</file>